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F898-A713-4203-9073-5A35E897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FB63-D4BF-428F-BB76-CAC69FC3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AB74-316B-4B50-8363-AA292639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D813-4CDE-4863-BB37-B8DCCD05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C38C-C9B1-473D-93E9-82FD90A9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2C5B-689A-49C9-896C-2B1766E7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FCBC-97B9-4D96-B73D-B9D627DC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E9D5-F87A-4E5A-A2C7-DE94C4FA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0DCF-D21F-44F9-A826-1BD32F67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82A6-D5D1-471A-A35D-94C16CE0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8253-6771-4013-B483-87B75FB3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535B-0FAE-4056-AA08-AB1E23E6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42B6-F4D3-464A-A417-B34CF10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3A48-BAE9-4F9A-A6EE-7029F9F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600E-E841-4E5B-9BA4-2122FADB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DAD5-F99B-4250-A804-BB2E12FF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345D-FFA0-4C4E-ADFD-3E8155B5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A20E-805C-479D-894E-BBC264E0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8BA5-E6E3-47C4-8777-AF5044F6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5F7F-4C8D-4252-8241-8CC5137D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97A7-D841-45AD-B75A-03B343B9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CB20-70B9-487A-A448-C027FDCB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B747-3DD9-4E7B-94AC-B9C35F6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9B7B-CE82-475E-BE7C-A153BFA5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8F0-AACE-472F-85B6-436E215FD1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338D-D878-47F2-B22D-9C27109C5F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hyperlink" Target="http://rds.yahoo.com/S=96062857/K=pbs/v=2/SID=e/l=II/R=1/SS=i/OID=d14b8999cf9c27fe/;_ylt=A9ibyGawfS5EchIB4iCJzbkF;_ylu=X3oDMTBjMHZkMjZyBHBvcwMxBHNlYwNzcg--/SIG=1ddsmo5ne/EXP=1143983920/*-http%3A//images.search.yahoo.com/search/images/view?back=http%3A%2F%2Fima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www.npr.org/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dfdef6"/>
                </a:solidFill>
                <a:latin typeface="Palatino"/>
              </a:rPr>
              <a:t>Student Edition:</a:t>
            </a:r>
            <a:br>
              <a:rPr sz="5400"/>
            </a:br>
            <a:r>
              <a:rPr b="1" lang="en-US" sz="3600" spc="-1" strike="noStrike">
                <a:solidFill>
                  <a:srgbClr val="dfdef6"/>
                </a:solidFill>
                <a:latin typeface="Palatino"/>
              </a:rPr>
              <a:t>Gale Info Trac Database Lesson</a:t>
            </a: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Palatino"/>
              </a:rPr>
              <a:t>Grades 9-12 High School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002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Celluc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200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Palatino"/>
              </a:rPr>
              <a:t>Activity/Study Guide: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udent Edition is an accessible and reliable source for research. This activity is designed to help you learn how to use this database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ep One – Over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egin by accessing 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udent Edi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ad over the basic search page. What types of documents can you fin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f you aren't sure what topic you want to research, what ideas and resources are available from the first pag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hat are some ways to refine your search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ep Two – The To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ck on the Toolbox found at the top of the page. What things can you get help with from her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ck on the Cite a Source link and print it out – keep this in your class binder as a re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ep Three – Marking I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arch for a top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rowse through the results page and mark three reference articles that sound inform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k one magazine source, one academic journal, one news source and one multimedia source. Print your marked items page and attach it to this assignm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Palatino"/>
              </a:rPr>
              <a:t>Cite the Source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def6"/>
                </a:solidFill>
                <a:latin typeface="Palatino"/>
              </a:rPr>
              <a:t>Standards:</a:t>
            </a:r>
            <a:r>
              <a:rPr b="0" lang="en-US" sz="4400" spc="-1" strike="noStrike">
                <a:solidFill>
                  <a:srgbClr val="dfdef6"/>
                </a:solidFill>
                <a:latin typeface="Palatino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Content Standard (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cate, access, analyze, organize, synthesize, evaluate and apply information about selected public issues — identifying, describing and evaluating multiple points of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Computer Literacy and Usage Standards 9-1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udent will develop skills using a variety of computer resources to increase productivity, support creativity, conduct and evaluate research and improve commun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udent will use technology resources to improve problem solving and decision making skills and apply these skills to real world sit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4255200"/>
            <a:ext cx="814068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Information Power; Information Literacy Standards 1-4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Standard 1: The student who is information literate accesses information efficiently and effective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Standard 2: The student who is information literate evaluates information critically and competent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Standard 3: The student who is information literate uses information accurately and creative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Palatino"/>
              </a:rPr>
              <a:t>Access/Audience/Overview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784872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047760" cy="14590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457200" y="2958840"/>
            <a:ext cx="723888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s/Activities by Stude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ill take part in a teacher led discussion / brainstorm focusing on these ques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Internet is not always considered a reliable research too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can you tell if a Web site is reli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What reliable resources are available to 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ill access 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udent Edition – Info Tra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database based on their teacher's instru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will complete the study guide provi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co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Students will be familiar with 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udent Edition databa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know how to use it and know how to find research and other helpful fe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fdef6"/>
                </a:solidFill>
                <a:latin typeface="Palatino"/>
              </a:rPr>
              <a:t>Handouts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 Edition Broch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vigation Gu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Palatino"/>
              </a:rPr>
              <a:t>Database use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general database that would work well for creating background knowledge of a top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Edition provides a research source for many assignments that are from the following disciplines/topic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/ His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Palatino"/>
              </a:rPr>
              <a:t>Feature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Provides access to multi sources: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FULL TEXT MAGAZ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NEWSPA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PODCA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REFERENCE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Podcasts, video and Aud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100s of sources of audio files and podcast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Full listening and download cap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Full transcri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Fully inde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ipod_photo.jpg image"/>
          <p:cNvPicPr/>
          <p:nvPr/>
        </p:nvPicPr>
        <p:blipFill>
          <a:blip r:embed="rId5"/>
          <a:stretch/>
        </p:blipFill>
        <p:spPr>
          <a:xfrm>
            <a:off x="5791320" y="1143000"/>
            <a:ext cx="1325520" cy="21906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4114800"/>
            <a:ext cx="1047600" cy="5810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NPR Home P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467480" y="3352680"/>
            <a:ext cx="1190880" cy="4003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Go to fullsize image"/>
          <p:cNvPicPr/>
          <p:nvPr/>
        </p:nvPicPr>
        <p:blipFill>
          <a:blip r:embed="rId10"/>
          <a:stretch/>
        </p:blipFill>
        <p:spPr>
          <a:xfrm>
            <a:off x="7620120" y="5029200"/>
            <a:ext cx="1000080" cy="7048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Go to fullsize image"/>
          <p:cNvPicPr/>
          <p:nvPr/>
        </p:nvPicPr>
        <p:blipFill>
          <a:blip r:embed="rId11"/>
          <a:stretch/>
        </p:blipFill>
        <p:spPr>
          <a:xfrm>
            <a:off x="5867280" y="4952880"/>
            <a:ext cx="1000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Palatino"/>
              </a:rPr>
              <a:t>Tools: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View any PDF document that may be linked to the artic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E-mail the article in HTML or plain-text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Generate citations in multiple form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Share links to the arti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Listen to the article or save it as an MP3 audio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Translate the article into one of 11 languages Print, download and bookmark the 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Multi Source:</a:t>
            </a:r>
            <a:br>
              <a:rPr sz="4000"/>
            </a:br>
            <a:r>
              <a:rPr b="1" lang="en-US" sz="2000" spc="-1" strike="noStrike">
                <a:solidFill>
                  <a:srgbClr val="dfdef6"/>
                </a:solidFill>
                <a:latin typeface="Palatino"/>
              </a:rPr>
              <a:t>Full Text Magazines/Newspapers/Podcasts/Reference Books/Images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523880" y="1486080"/>
            <a:ext cx="7162920" cy="53719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457200" y="327672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Search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fdef6"/>
                </a:solidFill>
                <a:latin typeface="Arial"/>
              </a:rPr>
              <a:t>Subject, keyword, entire document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696080" cy="4419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H="1">
            <a:off x="8381520" y="2971800"/>
            <a:ext cx="7621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Advanced/Boolean Search:</a:t>
            </a:r>
            <a:br>
              <a:rPr sz="4000"/>
            </a:br>
            <a:r>
              <a:rPr b="1" i="1" lang="en-US" sz="2800" spc="-1" strike="noStrike">
                <a:solidFill>
                  <a:srgbClr val="dfdef6"/>
                </a:solidFill>
                <a:latin typeface="Palatino"/>
              </a:rPr>
              <a:t>AND, OR, NOT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80880" y="2324160"/>
            <a:ext cx="8229600" cy="4533840"/>
            <a:chOff x="380880" y="2324160"/>
            <a:chExt cx="8229600" cy="453384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380880" y="2324160"/>
              <a:ext cx="8229600" cy="45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 txBox="1"/>
            <p:nvPr/>
          </p:nvSpPr>
          <p:spPr>
            <a:xfrm>
              <a:off x="380880" y="2324160"/>
              <a:ext cx="8229600" cy="45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Help Feature:</a:t>
            </a:r>
            <a:br>
              <a:rPr sz="4000"/>
            </a:br>
            <a:r>
              <a:rPr b="1" i="1" lang="en-US" sz="2800" spc="-1" strike="noStrike">
                <a:solidFill>
                  <a:srgbClr val="dfdef6"/>
                </a:solidFill>
                <a:latin typeface="Palatino"/>
              </a:rPr>
              <a:t>Advanced Search feature example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2296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Palatino"/>
              </a:rPr>
              <a:t>Search Preferences: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153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Palatino"/>
              </a:rPr>
              <a:t>Save/Share/Send:</a:t>
            </a:r>
            <a:br>
              <a:rPr sz="4000"/>
            </a:br>
            <a:r>
              <a:rPr b="1" lang="en-US" sz="1800" spc="-1" strike="noStrike">
                <a:solidFill>
                  <a:srgbClr val="dfdef6"/>
                </a:solidFill>
                <a:latin typeface="Palatino"/>
              </a:rPr>
              <a:t>Print, Bookmark, Download file, Email, Share, Download MP3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543800" cy="47642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 flipH="1">
            <a:off x="8229240" y="2514600"/>
            <a:ext cx="6858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1:50:10Z</dcterms:created>
  <dc:creator>celluccia</dc:creator>
  <dc:description/>
  <dc:language>en-US</dc:language>
  <cp:lastModifiedBy>Anita</cp:lastModifiedBy>
  <dcterms:modified xsi:type="dcterms:W3CDTF">2010-11-16T01:25:44Z</dcterms:modified>
  <cp:revision>12</cp:revision>
  <dc:subject/>
  <dc:title>  Student Edition: Gale Info Trac Database Lesson</dc:title>
</cp:coreProperties>
</file>